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98D93-7344-4A53-9F9C-D5006843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C09B4-B3BC-4EF4-9A5E-6087E046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6115-EBF3-47B6-BDF7-EBECC7B7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43BE-52A7-48E3-9147-C46CD42B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FA16-8E74-4CF7-BDE1-FD2E0E72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7E26-8CAB-42F7-AC84-581CE948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BE32-B709-4E31-B3AA-2463DEBA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8DEB-7D5F-438E-B8CB-C14BC3CD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23E6-5C80-4026-8FC7-A013EF6F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8BEF-0D69-4DC0-A5D0-B28E31EE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21CD-1053-403B-9618-7D5996B5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1A60-B0F1-4EA2-932D-E60954F7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3F27-8E76-4AB7-B661-BD28358A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BB1B-2456-438D-AE5D-E5FB6E5E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7D8C-307E-40A7-A653-0D357402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BF33-842B-45F0-B7A2-77EE4693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244D-E20C-4C8B-A6E0-70E82233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C857C-80BF-4165-A333-88CE83C8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EF929-A16F-4691-9916-42233DA8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2F1B-A867-45E1-8987-E57B6CAB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73C1-AB5F-4366-8930-BA42CAF4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ACD56-C647-4654-9147-84651C9E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346F-CF65-4493-B605-7B32772B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BB1B2-42AD-4CC0-A91F-EBC54DA2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252E-E043-47D8-BDED-AD9E53C22A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5574-735D-4CBB-A342-71C2CECF85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uroparl.eu.int/stoa/publi/pdf/99-05-01_en.pdf" TargetMode="External"/><Relationship Id="rId2" Type="http://schemas.openxmlformats.org/officeDocument/2006/relationships/hyperlink" Target="http://www.parliament.uk/post/report.htm" TargetMode="External"/><Relationship Id="rId3" Type="http://schemas.openxmlformats.org/officeDocument/2006/relationships/hyperlink" Target="http://www.senat.fr/rap/o97-5451/o97-5451.html" TargetMode="External"/><Relationship Id="rId4" Type="http://schemas.openxmlformats.org/officeDocument/2006/relationships/hyperlink" Target="http://www.senat.fr/rap/o97-54522/o97-54522.html" TargetMode="External"/><Relationship Id="rId5" Type="http://schemas.openxmlformats.org/officeDocument/2006/relationships/hyperlink" Target="http://www.senat.fr/rap/o97-54521/o97-54521.html" TargetMode="External"/><Relationship Id="rId6" Type="http://schemas.openxmlformats.org/officeDocument/2006/relationships/hyperlink" Target="http://www.tab.fzk.de/de/projekt/zusammenfassung/ab68.pdf" TargetMode="External"/><Relationship Id="rId7" Type="http://schemas.openxmlformats.org/officeDocument/2006/relationships/hyperlink" Target="http://www.gmo-watch.org/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79280" y="2349360"/>
            <a:ext cx="6985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Les rôles pluriels de l’intervention 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dans les affaires de OGM 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en France et e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340000" y="4581000"/>
            <a:ext cx="640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hingo Ham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ffiliate Fellow NISTEP/M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ctorand de la Science des Communication CIMEOS, Univ. Bourgo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0200" y="476280"/>
            <a:ext cx="34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icher d’Enquête 04/04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47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nquête OGM – Lobby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rrier (au-dessus de l’enseignement supéri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mode de trav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milieu du cabinet et son envi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reseau des Lobbyistes et des Cabinet du Lobby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périence de l’Intervention Lobbyi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égociation commerc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régulation publ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impacte de Lobby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s cli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publ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s publ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polit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positionnement des Lobbyistes et du Cabinet du Lobby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implication du Lobbying par rapport à la polit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uel type de la mise en oeuvre de vos travaux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ts di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s mémoi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560" y="476280"/>
            <a:ext cx="6707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ources d’inform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 dans les pays e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[1] Les bibliographies diverses retirés des jounaux spécif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[2] Norman J. Vig and Herbert Paschen (eds), ”Parliaments and Technology. The development of technology assessment in Europ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ocuments sur l’OGM (P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TA-STOA </a:t>
            </a:r>
            <a:r>
              <a:rPr b="0" lang="ja-JP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europarl.eu.int/stoa/publi/pdf/99-05-01_en.pd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gleterr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parliament.uk/post/report.ht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senat.fr/rap/o97-5451/o97-5451.ht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senat.fr/rap/o97-54522/o97-54522.ht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senat.fr/rap/o97-54521/o97-54521.ht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llemagn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www.tab.fzk.de/de/projekt/zusammenfassung/ab68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rland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annma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MO Watc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http://www.gmo-watch.org/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nalyse des documents et des rapports de l’O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les : Allimentation par la technologie de la modification gén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’arrier plan de TA sur Allimentaiton O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enticement de la technologie GM suite à Clonage, fécodation artificielle, modification de la gène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ers 1990 - L’application de technologie GM à l’allim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rective de l’UE90/220 et l’action EPTA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es discours dans la commission CODEX/W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a mise en examen par TA sur l’allimentation O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e typologie des rapport interventif sur l’allimentation O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es critères à observer; Définition de problème, Méthodologie, Concl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595008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*) EPTA(European Parliamentary Technology Assessme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2924280"/>
            <a:ext cx="4537080" cy="12967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084640"/>
            <a:ext cx="5832360" cy="936720"/>
          </a:xfrm>
          <a:prstGeom prst="ellipse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50920" y="189000"/>
          <a:ext cx="874872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8748720" cy="6480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979640" y="1916280"/>
            <a:ext cx="1130400" cy="259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1916280"/>
            <a:ext cx="1201680" cy="259236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1916280"/>
            <a:ext cx="1368720" cy="25923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1844640"/>
            <a:ext cx="1295640" cy="273672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0360" y="1844640"/>
            <a:ext cx="1368360" cy="273672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8910800">
            <a:off x="1800" y="21333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OBJECTIF de chaque 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50920" y="189000"/>
          <a:ext cx="874872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8748720" cy="6480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908000" y="3933720"/>
            <a:ext cx="1130400" cy="1582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005360"/>
            <a:ext cx="1201680" cy="158436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4005360"/>
            <a:ext cx="1368360" cy="165564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3860640"/>
            <a:ext cx="1295280" cy="18003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96360" y="3933720"/>
            <a:ext cx="1368360" cy="180036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910800">
            <a:off x="-3240" y="21189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METHODE de chaque 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50920" y="189000"/>
          <a:ext cx="874872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8748720" cy="6480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908000" y="4365720"/>
            <a:ext cx="1130400" cy="194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076640"/>
            <a:ext cx="1201680" cy="15843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2997360"/>
            <a:ext cx="1368360" cy="2592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56360" y="4005360"/>
            <a:ext cx="1295280" cy="1512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96360" y="3716280"/>
            <a:ext cx="1223640" cy="28814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910800">
            <a:off x="-98280" y="18856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PARTICULARITE de chaque 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2565360"/>
            <a:ext cx="6985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4724280"/>
            <a:ext cx="6985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692280"/>
            <a:ext cx="698508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5013360"/>
            <a:ext cx="1512720" cy="863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5013360"/>
            <a:ext cx="1512720" cy="863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5084640"/>
            <a:ext cx="1513080" cy="863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2852640"/>
            <a:ext cx="1513080" cy="863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2924280"/>
            <a:ext cx="1512720" cy="863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2852640"/>
            <a:ext cx="1512720" cy="863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5013360"/>
            <a:ext cx="1513080" cy="863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549360"/>
            <a:ext cx="158436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K: How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s the G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6000" y="476280"/>
            <a:ext cx="158436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: Risk cog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35280" y="1484280"/>
            <a:ext cx="158436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: Agro-Fo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D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1413000"/>
            <a:ext cx="158436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L: 25 Year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 Deb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76280"/>
            <a:ext cx="158436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K: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er Dev. 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1413000"/>
            <a:ext cx="158436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: RTD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2720" y="549360"/>
            <a:ext cx="158436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Z: Integ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tegy Sha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12000" y="1628640"/>
            <a:ext cx="1152720" cy="792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24720" y="5950080"/>
            <a:ext cx="1368360" cy="57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3429000"/>
            <a:ext cx="1368360" cy="79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2" idx="2"/>
            <a:endCxn id="148" idx="1"/>
          </p:cNvCxnSpPr>
          <p:nvPr/>
        </p:nvCxnSpPr>
        <p:spPr>
          <a:xfrm>
            <a:off x="1260000" y="1268280"/>
            <a:ext cx="438840" cy="171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48" idx="4"/>
            <a:endCxn id="146" idx="0"/>
          </p:cNvCxnSpPr>
          <p:nvPr/>
        </p:nvCxnSpPr>
        <p:spPr>
          <a:xfrm flipH="1">
            <a:off x="2088720" y="3715920"/>
            <a:ext cx="144720" cy="1297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3" idx="2"/>
            <a:endCxn id="148" idx="7"/>
          </p:cNvCxnSpPr>
          <p:nvPr/>
        </p:nvCxnSpPr>
        <p:spPr>
          <a:xfrm flipH="1">
            <a:off x="2766960" y="1195560"/>
            <a:ext cx="581400" cy="17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48" idx="5"/>
            <a:endCxn id="146" idx="7"/>
          </p:cNvCxnSpPr>
          <p:nvPr/>
        </p:nvCxnSpPr>
        <p:spPr>
          <a:xfrm flipH="1">
            <a:off x="2622240" y="3588840"/>
            <a:ext cx="144720" cy="155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48" idx="5"/>
            <a:endCxn id="145" idx="0"/>
          </p:cNvCxnSpPr>
          <p:nvPr/>
        </p:nvCxnSpPr>
        <p:spPr>
          <a:xfrm>
            <a:off x="2766600" y="3589200"/>
            <a:ext cx="1050120" cy="142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3276720" y="2924280"/>
            <a:ext cx="1512720" cy="863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ing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54" idx="3"/>
            <a:endCxn id="167" idx="0"/>
          </p:cNvCxnSpPr>
          <p:nvPr/>
        </p:nvCxnSpPr>
        <p:spPr>
          <a:xfrm>
            <a:off x="3419640" y="1844280"/>
            <a:ext cx="614880" cy="1080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4" idx="3"/>
            <a:endCxn id="149" idx="1"/>
          </p:cNvCxnSpPr>
          <p:nvPr/>
        </p:nvCxnSpPr>
        <p:spPr>
          <a:xfrm>
            <a:off x="3419280" y="1844280"/>
            <a:ext cx="1735560" cy="1207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9" idx="4"/>
            <a:endCxn id="147" idx="0"/>
          </p:cNvCxnSpPr>
          <p:nvPr/>
        </p:nvCxnSpPr>
        <p:spPr>
          <a:xfrm flipH="1">
            <a:off x="5616360" y="3787920"/>
            <a:ext cx="73440" cy="1297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7" idx="4"/>
            <a:endCxn id="146" idx="7"/>
          </p:cNvCxnSpPr>
          <p:nvPr/>
        </p:nvCxnSpPr>
        <p:spPr>
          <a:xfrm flipH="1">
            <a:off x="2622240" y="3787560"/>
            <a:ext cx="1411920" cy="1353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2" name=""/>
          <p:cNvCxnSpPr/>
          <p:nvPr/>
        </p:nvCxnSpPr>
        <p:spPr>
          <a:xfrm>
            <a:off x="6156000" y="3715920"/>
            <a:ext cx="1121400" cy="1353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5" idx="2"/>
            <a:endCxn id="148" idx="7"/>
          </p:cNvCxnSpPr>
          <p:nvPr/>
        </p:nvCxnSpPr>
        <p:spPr>
          <a:xfrm flipH="1">
            <a:off x="2766240" y="2131560"/>
            <a:ext cx="1950120" cy="8485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5" idx="2"/>
            <a:endCxn id="167" idx="0"/>
          </p:cNvCxnSpPr>
          <p:nvPr/>
        </p:nvCxnSpPr>
        <p:spPr>
          <a:xfrm flipH="1">
            <a:off x="4033800" y="2131560"/>
            <a:ext cx="682920" cy="793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7" idx="3"/>
            <a:endCxn id="146" idx="0"/>
          </p:cNvCxnSpPr>
          <p:nvPr/>
        </p:nvCxnSpPr>
        <p:spPr>
          <a:xfrm flipH="1">
            <a:off x="2088720" y="3660480"/>
            <a:ext cx="1410480" cy="1353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48" idx="5"/>
            <a:endCxn id="146" idx="0"/>
          </p:cNvCxnSpPr>
          <p:nvPr/>
        </p:nvCxnSpPr>
        <p:spPr>
          <a:xfrm flipH="1">
            <a:off x="2088360" y="3589200"/>
            <a:ext cx="678600" cy="14248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0" idx="4"/>
            <a:endCxn id="146" idx="7"/>
          </p:cNvCxnSpPr>
          <p:nvPr/>
        </p:nvCxnSpPr>
        <p:spPr>
          <a:xfrm flipH="1">
            <a:off x="2622240" y="3716280"/>
            <a:ext cx="4651920" cy="1424880"/>
          </a:xfrm>
          <a:prstGeom prst="straightConnector1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50" idx="4"/>
            <a:endCxn id="147" idx="0"/>
          </p:cNvCxnSpPr>
          <p:nvPr/>
        </p:nvCxnSpPr>
        <p:spPr>
          <a:xfrm flipH="1">
            <a:off x="5616000" y="3715920"/>
            <a:ext cx="1657800" cy="1369080"/>
          </a:xfrm>
          <a:prstGeom prst="straightConnector1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50" idx="4"/>
            <a:endCxn id="151" idx="0"/>
          </p:cNvCxnSpPr>
          <p:nvPr/>
        </p:nvCxnSpPr>
        <p:spPr>
          <a:xfrm>
            <a:off x="7273440" y="3715920"/>
            <a:ext cx="72360" cy="1297800"/>
          </a:xfrm>
          <a:prstGeom prst="straightConnector1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56" idx="2"/>
            <a:endCxn id="150" idx="1"/>
          </p:cNvCxnSpPr>
          <p:nvPr/>
        </p:nvCxnSpPr>
        <p:spPr>
          <a:xfrm>
            <a:off x="5148360" y="1195560"/>
            <a:ext cx="1591200" cy="1784880"/>
          </a:xfrm>
          <a:prstGeom prst="straightConnector1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58" idx="2"/>
            <a:endCxn id="149" idx="0"/>
          </p:cNvCxnSpPr>
          <p:nvPr/>
        </p:nvCxnSpPr>
        <p:spPr>
          <a:xfrm flipH="1">
            <a:off x="5689080" y="1268280"/>
            <a:ext cx="1836000" cy="165672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58" idx="2"/>
            <a:endCxn id="148" idx="7"/>
          </p:cNvCxnSpPr>
          <p:nvPr/>
        </p:nvCxnSpPr>
        <p:spPr>
          <a:xfrm flipH="1">
            <a:off x="2766600" y="1268280"/>
            <a:ext cx="4758480" cy="171216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58" idx="2"/>
            <a:endCxn id="150" idx="7"/>
          </p:cNvCxnSpPr>
          <p:nvPr/>
        </p:nvCxnSpPr>
        <p:spPr>
          <a:xfrm>
            <a:off x="7524360" y="1268280"/>
            <a:ext cx="283320" cy="171216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58" idx="2"/>
            <a:endCxn id="167" idx="7"/>
          </p:cNvCxnSpPr>
          <p:nvPr/>
        </p:nvCxnSpPr>
        <p:spPr>
          <a:xfrm flipH="1">
            <a:off x="4566600" y="1268280"/>
            <a:ext cx="2958120" cy="178344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8" idx="5"/>
            <a:endCxn id="147" idx="0"/>
          </p:cNvCxnSpPr>
          <p:nvPr/>
        </p:nvCxnSpPr>
        <p:spPr>
          <a:xfrm>
            <a:off x="2766960" y="3589200"/>
            <a:ext cx="2850480" cy="149616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67" idx="5"/>
            <a:endCxn id="147" idx="0"/>
          </p:cNvCxnSpPr>
          <p:nvPr/>
        </p:nvCxnSpPr>
        <p:spPr>
          <a:xfrm>
            <a:off x="4566960" y="3660480"/>
            <a:ext cx="1050120" cy="142452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50" idx="5"/>
            <a:endCxn id="147" idx="7"/>
          </p:cNvCxnSpPr>
          <p:nvPr/>
        </p:nvCxnSpPr>
        <p:spPr>
          <a:xfrm flipH="1">
            <a:off x="6149520" y="3588840"/>
            <a:ext cx="1658160" cy="162324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49" idx="5"/>
            <a:endCxn id="147" idx="0"/>
          </p:cNvCxnSpPr>
          <p:nvPr/>
        </p:nvCxnSpPr>
        <p:spPr>
          <a:xfrm flipH="1">
            <a:off x="5616360" y="3660480"/>
            <a:ext cx="606960" cy="142452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57" idx="2"/>
            <a:endCxn id="167" idx="7"/>
          </p:cNvCxnSpPr>
          <p:nvPr/>
        </p:nvCxnSpPr>
        <p:spPr>
          <a:xfrm flipH="1">
            <a:off x="4566600" y="2131560"/>
            <a:ext cx="2166120" cy="919800"/>
          </a:xfrm>
          <a:prstGeom prst="straightConnector1">
            <a:avLst/>
          </a:prstGeom>
          <a:ln w="9360">
            <a:solidFill>
              <a:srgbClr val="cccce6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57" idx="2"/>
            <a:endCxn id="148" idx="7"/>
          </p:cNvCxnSpPr>
          <p:nvPr/>
        </p:nvCxnSpPr>
        <p:spPr>
          <a:xfrm flipH="1">
            <a:off x="2766600" y="2131560"/>
            <a:ext cx="3966480" cy="848520"/>
          </a:xfrm>
          <a:prstGeom prst="straightConnector1">
            <a:avLst/>
          </a:prstGeom>
          <a:ln w="9360">
            <a:solidFill>
              <a:srgbClr val="cccce6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67" idx="6"/>
            <a:endCxn id="147" idx="0"/>
          </p:cNvCxnSpPr>
          <p:nvPr/>
        </p:nvCxnSpPr>
        <p:spPr>
          <a:xfrm>
            <a:off x="4789440" y="3355920"/>
            <a:ext cx="828000" cy="1729440"/>
          </a:xfrm>
          <a:prstGeom prst="straightConnector1">
            <a:avLst/>
          </a:prstGeom>
          <a:ln w="9360">
            <a:solidFill>
              <a:srgbClr val="cccce6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48" idx="6"/>
            <a:endCxn id="147" idx="1"/>
          </p:cNvCxnSpPr>
          <p:nvPr/>
        </p:nvCxnSpPr>
        <p:spPr>
          <a:xfrm>
            <a:off x="2989440" y="3284280"/>
            <a:ext cx="2092680" cy="1927800"/>
          </a:xfrm>
          <a:prstGeom prst="straightConnector1">
            <a:avLst/>
          </a:prstGeom>
          <a:ln w="9360">
            <a:solidFill>
              <a:srgbClr val="cccce6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10200" y="6237360"/>
            <a:ext cx="57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MO Related Technology Assessment at the PTA 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2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araison des typologies de TA  - où sont ils leurs appuies ?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apport par les recherches analyt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tilisation des voies différentes et plur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cherche et développement des méth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nitoring, mais pas utiliser différent méth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eil poli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is de différent méthode et faire les cohabiter dans l’assessment, bref synth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ion de cons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apport d’analyse et Conseil poli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3T02:50:09Z</dcterms:created>
  <dc:creator>産業技術総合研究所</dc:creator>
  <dc:description/>
  <dc:language>en-US</dc:language>
  <cp:lastModifiedBy>ATHENA</cp:lastModifiedBy>
  <dcterms:modified xsi:type="dcterms:W3CDTF">2007-04-04T14:47:19Z</dcterms:modified>
  <cp:revision>32</cp:revision>
  <dc:subject/>
  <dc:title>スライド 1</dc:title>
</cp:coreProperties>
</file>