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AD4D-8290-4B2E-BDE5-8D25327C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BE82-D488-4067-9036-EC523D1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2B92-72C3-4BB7-AF4C-EBBC8B65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5D1E-45BA-40B6-81FD-80AB30E7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B11-5F27-49EC-969C-D0E25F63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B92C-067E-48FB-BA77-8661F0C7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3597-B54B-48CC-86A3-CC1D1230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AA9-0BE6-4ED4-89FA-CD03A16C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09CD-6C77-42D3-8487-A105F921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ACD-655F-4643-871F-6FD03FA4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9959-48A7-4FA6-9291-A96CE7D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135D-8CF9-41AB-884F-6B233669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68B5-1245-4EB3-8B73-4BA475B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F48F-7ADE-4330-AF9D-B425F293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44B-D404-454C-8164-EA9A9D78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37C-2254-41D3-A5DB-E89818C8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CC9-6667-40CE-B24D-93383F35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0885-6221-4902-807E-16DD1304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7DBE-4EDD-48DC-8C3F-703F2987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8F7C-C49D-453A-B858-7D27161B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217F-551A-461A-8894-2CA6F099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60D1-9825-4EE9-8212-BDB2A4D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A890-BC3A-40B6-BEBB-8FEC84D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7083-2FFE-497F-A8ED-3D32C333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CF7-003A-4912-8260-076D7AC95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187-2701-4768-A7F5-7F09ADEA3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uroparl.eu.int/stoa/publi/pdf/99-05-01_en.pdf" TargetMode="External"/><Relationship Id="rId2" Type="http://schemas.openxmlformats.org/officeDocument/2006/relationships/hyperlink" Target="http://www.parliament.uk/post/report.htm" TargetMode="External"/><Relationship Id="rId3" Type="http://schemas.openxmlformats.org/officeDocument/2006/relationships/hyperlink" Target="http://www.senat.fr/rap/o97-5451/o97-5451.html" TargetMode="External"/><Relationship Id="rId4" Type="http://schemas.openxmlformats.org/officeDocument/2006/relationships/hyperlink" Target="http://www.senat.fr/rap/o97-54522/o97-54522.html" TargetMode="External"/><Relationship Id="rId5" Type="http://schemas.openxmlformats.org/officeDocument/2006/relationships/hyperlink" Target="http://www.senat.fr/rap/o97-54521/o97-54521.html" TargetMode="External"/><Relationship Id="rId6" Type="http://schemas.openxmlformats.org/officeDocument/2006/relationships/hyperlink" Target="http://www.tab.fzk.de/de/projekt/zusammenfassung/ab68.pdf" TargetMode="External"/><Relationship Id="rId7" Type="http://schemas.openxmlformats.org/officeDocument/2006/relationships/hyperlink" Target="http://www.gmo-watch.org/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79280" y="2349360"/>
            <a:ext cx="69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Les rôles pluriels de l’intervention 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ans les affaires de OGM 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n France et e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40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ingo Ham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ffiliate Fellow NISTEP/M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ctorand de la Science des Communication CIMEOS, Univ. Bourgo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0200" y="47628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icher d’Enquête 04/04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nquête OGM – Lobby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rier (au-dessus de l’enseignement supéri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mode de trav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milieu du cabinet et son envi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reseau des Lobbyistes et des Cabinet du Lobb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ence de l’Intervention Lobby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égociation commer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régulation pub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mpacte de Lobb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s cli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publ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s publ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olit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positionnement des Lobbyistes et du Cabinet du Lobby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mplication du Lobbying par rapport à la polit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 type de la mise en oeuvre de vos travaux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ts di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s mémoi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6707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ources d’inform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 dans les pays e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1] Les bibliographies diverses retirés des jounaux spécif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2] Norman J. Vig and Herbert Paschen (eds), ”Parliaments and Technology. The development of technology assessment in Euro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ocuments sur l’OGM (P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TA-STOA 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europarl.eu.int/stoa/publi/pdf/99-05-01_en.pd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gleter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parliament.uk/post/report.ht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senat.fr/rap/o97-5451/o97-5451.ht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senat.fr/rap/o97-54522/o97-54522.ht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senat.fr/rap/o97-54521/o97-54521.ht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llemagn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www.tab.fzk.de/de/projekt/zusammenfassung/ab68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rlan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nnma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MO Watc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ttp://www.gmo-watch.org/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alyse des documents et des rapports de l’O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es : Allimentation par la technologie de la modification gén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’arrier plan de TA sur Allimentaiton O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enticement de la technologie GM suite à Clonage, fécodation artificielle, modification de la gèn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ers 1990 - L’application de technologie GM à l’allim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ive de l’UE90/220 et l’action EPTA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s discours dans la commission CODEX/W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 mise en examen par TA sur l’allimentation O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 typologie des rapport interventif sur l’allimentation O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es critères à observer; Définition de problème, Méthodologie, 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95008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*) EPTA(European Parliamentary Technology Assessme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924280"/>
            <a:ext cx="4537080" cy="1296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084640"/>
            <a:ext cx="5832360" cy="936720"/>
          </a:xfrm>
          <a:prstGeom prst="ellipse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189000"/>
          <a:ext cx="874872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748720" cy="648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979640" y="1916280"/>
            <a:ext cx="1130400" cy="25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916280"/>
            <a:ext cx="1201680" cy="25923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1916280"/>
            <a:ext cx="1368720" cy="2592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844640"/>
            <a:ext cx="1295640" cy="273672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1844640"/>
            <a:ext cx="1368360" cy="273672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8910800">
            <a:off x="1800" y="21333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OBJECTIF de chaque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50920" y="189000"/>
          <a:ext cx="874872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748720" cy="648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908000" y="3933720"/>
            <a:ext cx="1130400" cy="158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005360"/>
            <a:ext cx="1201680" cy="15843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005360"/>
            <a:ext cx="1368360" cy="16556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860640"/>
            <a:ext cx="1295280" cy="1800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3933720"/>
            <a:ext cx="1368360" cy="180036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910800">
            <a:off x="-3240" y="21189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METHODE de chaque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50920" y="189000"/>
          <a:ext cx="874872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8748720" cy="648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08000" y="4365720"/>
            <a:ext cx="1130400" cy="194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076640"/>
            <a:ext cx="1201680" cy="15843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997360"/>
            <a:ext cx="1368360" cy="2592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4005360"/>
            <a:ext cx="1295280" cy="1512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96360" y="3716280"/>
            <a:ext cx="1223640" cy="28814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910800">
            <a:off x="-98280" y="18856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PARTICULARITE de chaque 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2565360"/>
            <a:ext cx="6985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724280"/>
            <a:ext cx="6985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692280"/>
            <a:ext cx="698508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013360"/>
            <a:ext cx="151272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5013360"/>
            <a:ext cx="151272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5084640"/>
            <a:ext cx="151308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2852640"/>
            <a:ext cx="151308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2924280"/>
            <a:ext cx="15127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2852640"/>
            <a:ext cx="15127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5013360"/>
            <a:ext cx="1513080" cy="863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4936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K: How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s the 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476280"/>
            <a:ext cx="1584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: Risk 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35280" y="1484280"/>
            <a:ext cx="1584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: Agro-F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D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141300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L: 25 Yea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 Deb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76280"/>
            <a:ext cx="158436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K: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Dev. 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141300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: RTD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549360"/>
            <a:ext cx="1584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Z: Integ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y Sha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12000" y="1628640"/>
            <a:ext cx="115272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24720" y="5950080"/>
            <a:ext cx="1368360" cy="57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3429000"/>
            <a:ext cx="136836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2" idx="2"/>
            <a:endCxn id="148" idx="1"/>
          </p:cNvCxnSpPr>
          <p:nvPr/>
        </p:nvCxnSpPr>
        <p:spPr>
          <a:xfrm>
            <a:off x="1260000" y="1268280"/>
            <a:ext cx="438840" cy="171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8" idx="4"/>
            <a:endCxn id="146" idx="0"/>
          </p:cNvCxnSpPr>
          <p:nvPr/>
        </p:nvCxnSpPr>
        <p:spPr>
          <a:xfrm flipH="1">
            <a:off x="2088720" y="3715920"/>
            <a:ext cx="144720" cy="1297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3" idx="2"/>
            <a:endCxn id="148" idx="7"/>
          </p:cNvCxnSpPr>
          <p:nvPr/>
        </p:nvCxnSpPr>
        <p:spPr>
          <a:xfrm flipH="1">
            <a:off x="2766960" y="1195560"/>
            <a:ext cx="581400" cy="17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48" idx="5"/>
            <a:endCxn id="146" idx="7"/>
          </p:cNvCxnSpPr>
          <p:nvPr/>
        </p:nvCxnSpPr>
        <p:spPr>
          <a:xfrm flipH="1">
            <a:off x="2622240" y="3588840"/>
            <a:ext cx="14472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48" idx="5"/>
            <a:endCxn id="145" idx="0"/>
          </p:cNvCxnSpPr>
          <p:nvPr/>
        </p:nvCxnSpPr>
        <p:spPr>
          <a:xfrm>
            <a:off x="2766600" y="3589200"/>
            <a:ext cx="1050120" cy="14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276720" y="2924280"/>
            <a:ext cx="15127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4" idx="3"/>
            <a:endCxn id="167" idx="0"/>
          </p:cNvCxnSpPr>
          <p:nvPr/>
        </p:nvCxnSpPr>
        <p:spPr>
          <a:xfrm>
            <a:off x="3419640" y="1844280"/>
            <a:ext cx="614880" cy="1080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4" idx="3"/>
            <a:endCxn id="149" idx="1"/>
          </p:cNvCxnSpPr>
          <p:nvPr/>
        </p:nvCxnSpPr>
        <p:spPr>
          <a:xfrm>
            <a:off x="3419280" y="1844280"/>
            <a:ext cx="1735560" cy="120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9" idx="4"/>
            <a:endCxn id="147" idx="0"/>
          </p:cNvCxnSpPr>
          <p:nvPr/>
        </p:nvCxnSpPr>
        <p:spPr>
          <a:xfrm flipH="1">
            <a:off x="5616360" y="3787920"/>
            <a:ext cx="73440" cy="1297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7" idx="4"/>
            <a:endCxn id="146" idx="7"/>
          </p:cNvCxnSpPr>
          <p:nvPr/>
        </p:nvCxnSpPr>
        <p:spPr>
          <a:xfrm flipH="1">
            <a:off x="2622240" y="3787560"/>
            <a:ext cx="1411920" cy="1353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>
            <a:off x="6156000" y="3715920"/>
            <a:ext cx="1121400" cy="1353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5" idx="2"/>
            <a:endCxn id="148" idx="7"/>
          </p:cNvCxnSpPr>
          <p:nvPr/>
        </p:nvCxnSpPr>
        <p:spPr>
          <a:xfrm flipH="1">
            <a:off x="2766240" y="2131560"/>
            <a:ext cx="1950120" cy="8485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5" idx="2"/>
            <a:endCxn id="167" idx="0"/>
          </p:cNvCxnSpPr>
          <p:nvPr/>
        </p:nvCxnSpPr>
        <p:spPr>
          <a:xfrm flipH="1">
            <a:off x="4033800" y="2131560"/>
            <a:ext cx="682920" cy="7930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7" idx="3"/>
            <a:endCxn id="146" idx="0"/>
          </p:cNvCxnSpPr>
          <p:nvPr/>
        </p:nvCxnSpPr>
        <p:spPr>
          <a:xfrm flipH="1">
            <a:off x="2088720" y="3660480"/>
            <a:ext cx="1410480" cy="13532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48" idx="5"/>
            <a:endCxn id="146" idx="0"/>
          </p:cNvCxnSpPr>
          <p:nvPr/>
        </p:nvCxnSpPr>
        <p:spPr>
          <a:xfrm flipH="1">
            <a:off x="2088360" y="3589200"/>
            <a:ext cx="678600" cy="142488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4"/>
            <a:endCxn id="146" idx="7"/>
          </p:cNvCxnSpPr>
          <p:nvPr/>
        </p:nvCxnSpPr>
        <p:spPr>
          <a:xfrm flipH="1">
            <a:off x="2622240" y="3716280"/>
            <a:ext cx="4651920" cy="142488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50" idx="4"/>
            <a:endCxn id="147" idx="0"/>
          </p:cNvCxnSpPr>
          <p:nvPr/>
        </p:nvCxnSpPr>
        <p:spPr>
          <a:xfrm flipH="1">
            <a:off x="5616000" y="3715920"/>
            <a:ext cx="1657800" cy="136908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0" idx="4"/>
            <a:endCxn id="151" idx="0"/>
          </p:cNvCxnSpPr>
          <p:nvPr/>
        </p:nvCxnSpPr>
        <p:spPr>
          <a:xfrm>
            <a:off x="7273440" y="3715920"/>
            <a:ext cx="72360" cy="129780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56" idx="2"/>
            <a:endCxn id="150" idx="1"/>
          </p:cNvCxnSpPr>
          <p:nvPr/>
        </p:nvCxnSpPr>
        <p:spPr>
          <a:xfrm>
            <a:off x="5148360" y="1195560"/>
            <a:ext cx="1591200" cy="1784880"/>
          </a:xfrm>
          <a:prstGeom prst="straightConnector1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58" idx="2"/>
            <a:endCxn id="149" idx="0"/>
          </p:cNvCxnSpPr>
          <p:nvPr/>
        </p:nvCxnSpPr>
        <p:spPr>
          <a:xfrm flipH="1">
            <a:off x="5689080" y="1268280"/>
            <a:ext cx="1836000" cy="165672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58" idx="2"/>
            <a:endCxn id="148" idx="7"/>
          </p:cNvCxnSpPr>
          <p:nvPr/>
        </p:nvCxnSpPr>
        <p:spPr>
          <a:xfrm flipH="1">
            <a:off x="2766600" y="1268280"/>
            <a:ext cx="4758480" cy="17121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58" idx="2"/>
            <a:endCxn id="150" idx="7"/>
          </p:cNvCxnSpPr>
          <p:nvPr/>
        </p:nvCxnSpPr>
        <p:spPr>
          <a:xfrm>
            <a:off x="7524360" y="1268280"/>
            <a:ext cx="283320" cy="17121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58" idx="2"/>
            <a:endCxn id="167" idx="7"/>
          </p:cNvCxnSpPr>
          <p:nvPr/>
        </p:nvCxnSpPr>
        <p:spPr>
          <a:xfrm flipH="1">
            <a:off x="4566600" y="1268280"/>
            <a:ext cx="2958120" cy="178344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8" idx="5"/>
            <a:endCxn id="147" idx="0"/>
          </p:cNvCxnSpPr>
          <p:nvPr/>
        </p:nvCxnSpPr>
        <p:spPr>
          <a:xfrm>
            <a:off x="2766960" y="3589200"/>
            <a:ext cx="2850480" cy="14961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7" idx="5"/>
            <a:endCxn id="147" idx="0"/>
          </p:cNvCxnSpPr>
          <p:nvPr/>
        </p:nvCxnSpPr>
        <p:spPr>
          <a:xfrm>
            <a:off x="4566960" y="3660480"/>
            <a:ext cx="1050120" cy="142452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50" idx="5"/>
            <a:endCxn id="147" idx="7"/>
          </p:cNvCxnSpPr>
          <p:nvPr/>
        </p:nvCxnSpPr>
        <p:spPr>
          <a:xfrm flipH="1">
            <a:off x="6149520" y="3588840"/>
            <a:ext cx="1658160" cy="162324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49" idx="5"/>
            <a:endCxn id="147" idx="0"/>
          </p:cNvCxnSpPr>
          <p:nvPr/>
        </p:nvCxnSpPr>
        <p:spPr>
          <a:xfrm flipH="1">
            <a:off x="5616360" y="3660480"/>
            <a:ext cx="606960" cy="142452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57" idx="2"/>
            <a:endCxn id="167" idx="7"/>
          </p:cNvCxnSpPr>
          <p:nvPr/>
        </p:nvCxnSpPr>
        <p:spPr>
          <a:xfrm flipH="1">
            <a:off x="4566600" y="2131560"/>
            <a:ext cx="2166120" cy="91980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57" idx="2"/>
            <a:endCxn id="148" idx="7"/>
          </p:cNvCxnSpPr>
          <p:nvPr/>
        </p:nvCxnSpPr>
        <p:spPr>
          <a:xfrm flipH="1">
            <a:off x="2766600" y="2131560"/>
            <a:ext cx="3966480" cy="84852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7" idx="6"/>
            <a:endCxn id="147" idx="0"/>
          </p:cNvCxnSpPr>
          <p:nvPr/>
        </p:nvCxnSpPr>
        <p:spPr>
          <a:xfrm>
            <a:off x="4789440" y="3355920"/>
            <a:ext cx="828000" cy="172944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48" idx="6"/>
            <a:endCxn id="147" idx="1"/>
          </p:cNvCxnSpPr>
          <p:nvPr/>
        </p:nvCxnSpPr>
        <p:spPr>
          <a:xfrm>
            <a:off x="2989440" y="3284280"/>
            <a:ext cx="2092680" cy="1927800"/>
          </a:xfrm>
          <a:prstGeom prst="straightConnector1">
            <a:avLst/>
          </a:prstGeom>
          <a:ln w="9360">
            <a:solidFill>
              <a:srgbClr val="cccce6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10200" y="6237360"/>
            <a:ext cx="57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MO Related Technology Assessment at the PTA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araison des typologies de TA  - où sont ils leurs appuies ?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apport par les recherches analyt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tilisation des voies différentes et plu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cherche et développement des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nitoring, mais pas utiliser différent mé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eil 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is de différent méthode et faire les cohabiter dans l’assessment, bref synth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ion de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apport d’analyse et Conseil pol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2:50:09Z</dcterms:created>
  <dc:creator>産業技術総合研究所</dc:creator>
  <dc:description/>
  <dc:language>en-US</dc:language>
  <cp:lastModifiedBy>ATHENA</cp:lastModifiedBy>
  <dcterms:modified xsi:type="dcterms:W3CDTF">2007-04-04T14:47:19Z</dcterms:modified>
  <cp:revision>32</cp:revision>
  <dc:subject/>
  <dc:title>スライド 1</dc:title>
</cp:coreProperties>
</file>